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9A33-6344-4880-9D69-F1E83E96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8CD6-841B-4FB6-8D38-A3353590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5B7B-B75C-406E-9C63-DBC0ABF0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99EC-AC4F-4C17-97D9-FCF0C6E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C534-63D1-471F-84CB-259D4B93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FB79-F11D-4CCC-B10C-0568D4A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1CB4-0589-4AC3-BE1C-13EBE884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2F22-1016-4673-B7B5-43B25E99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8053-806D-4805-8A70-BA1FED8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44C-F96D-4B7D-BF28-28D273B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F3B4-7789-4BAB-AF57-AECABCB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DD10-C9FE-4E2F-9706-B536EB52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952E-912C-4B2C-AF58-E6936A1E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183-0D38-4983-AF79-BDB2735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C248-C9AC-4D0F-8BC5-28B0224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B477-1E35-4EBA-9396-1FA82C60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162D-AF73-4CC9-A0EC-8066642B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D0EF-BCD0-471A-B771-A8106118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2664-2DF4-4193-AF55-BEB1D564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E119-7D6F-4550-84A7-161F7C4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8C77-61A7-4A37-82B6-F8DBE749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BA7A-C6A4-4BA7-9895-0B2E621B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DE48-AF8E-4BDE-A6E5-99C7550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E670-5FFF-4FFF-9953-F490B2A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7146-BBBB-49CB-8B00-A8B658610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3CFE-F37A-48CB-9895-72191B12E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ftware Requirements and SQ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cture # 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D3CE-AA0F-4945-A0F9-C0C04A447F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ffected in some way by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describe requirements at different levels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/business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5D5F-8A7E-4405-9A9C-71BF1823EB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quireme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maintain records of all payments made to employees on accounts of salaries, bonuses, travel/daily allowances, medical allowanc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interface with the central computer to send daily sales and inventory data from every retail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03AE-1E28-4BF5-9F22-7272805F70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quir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maintain records of all library materials including books, serials, newspapers and magazines, video and audio tapes, reports, collections of transparencies, CD-ROMs, DV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8250-FF21-401E-8B6A-787946391E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oftwar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ation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FD91-995D-4F0A-B241-7C38B92A09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Requireme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s describing what the system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ity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s of services the system should pro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to particular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in particular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9A6B-8FDA-42BD-84CA-30214BE0BE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Requir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parallelism are also captured by 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 behavior is also documented as functional requirements in the form of 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0F93-A17B-4166-BAB4-43DB8996A2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unctional Requirement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non-functional requirements relate to the system as a whole. They include constraints on timing, performance, reliability, security, maintainability, accuracy, the development process, standar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FF9C-12FA-4366-9E21-1FCF4FACAC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unctional Requirement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often more critical than individual 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the emergent behavior of the system, that is they relate to system as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non-functional requirements describe the quality attributes of the softwar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36AD-BD9F-4495-B7D1-E7DB059914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unctional Requirements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if an aircraft system does not meet reliability requirements, it will not be certified as ‘saf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real-time control system fails to meet its performance requirements, the control functions will not operate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1621-30FE-44EA-95F0-4A14FCA647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unctional Requirements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13372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44956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495680"/>
            <a:ext cx="17528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4956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28800" y="380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162920" y="380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8098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4640" y="228600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Fun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360" y="461628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461628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480" y="46483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3ACD-57F9-44A4-807D-26303B3215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Phase of the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hase, we will discuss the importance, impact, practices, and techniques of software quality assurance as they relate to different activities in the software developme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begin with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63CE-619F-4D83-B6FE-91C2C6C6F4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Requireme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190512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5812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5812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5812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200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960" y="205740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37080" y="370188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560" y="37339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5812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09080" y="37339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240" y="37339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5257800"/>
            <a:ext cx="17528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257800"/>
            <a:ext cx="17528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4876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8280" y="537840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4280" y="537840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2944-7549-48F2-9537-E2C766926D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Requir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allow one hundred thousand hits per minute on th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not have down time of more than one second for continuous execution of one thousand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F893-1068-48DC-9E0E-4D7CF7C9D6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Requirement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213372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44956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4495680"/>
            <a:ext cx="17528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49568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28800" y="380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162920" y="380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38098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1520" y="4616280"/>
            <a:ext cx="16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360" y="461628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225432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480" y="46483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05D8-DDBB-4F11-8D8E-ACBE255414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Requireme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182880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365760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3657600"/>
            <a:ext cx="17528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657600"/>
            <a:ext cx="17524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2004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29320" y="377820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h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8520" y="3778200"/>
            <a:ext cx="16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6720" y="194940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480" y="380988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4956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956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828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62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5334120"/>
            <a:ext cx="17528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5334120"/>
            <a:ext cx="17528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4952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480" y="54547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480" y="54547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F170-36F9-464E-97E3-C881D7D905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Requir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not disclose any personal information about members of the library system to other members except system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comply with the local and national laws regarding the use of softwar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B3A6-D969-4959-B01D-BB6D4A6CB1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on Non-Functional Requireme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functional requirements are written to reflect general goals for the system.  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from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use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490B-DEC2-439D-80F9-9DC2064EEA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on Non-Functional Requir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are open to mis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verification 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on between functional and non-functional is not always very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745F-F641-4E5E-9825-848D282E38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on Non-Functional Requiremen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functional requirements should be written in a quantitative manner as much as possible, which is not always easy for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goals, there are no quantitative measures, e.g., main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D8AE-01D5-40D3-827B-0F2133949A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on Non-Functional Requiremen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can be useful to designers and developers, as they give clues to them about priorities of the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9266-DE5A-4F05-B4A7-442A4FDC9C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on Non-Functional Requirements 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s of conflicts within non-functional requirements are fairly high, because information is coming from different stakeholders.  For example, different stakeholders can give different response times or failure tolerance level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3D43-98DC-44F1-8665-1EDFACEB23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m the basis for all softwar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engineering is the process, which enables us to systematically determine the requirements for a softwar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B7B6-6AB3-41F1-90C9-F79A5A7F6F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on Non-Functional Requirements -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negotiations must be done among different stakeholders, to achieve an agreement in thes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C3DC-D307-48A4-8A6B-3090643D3C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on Non-Functional Requirements -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functional requirements should be highlighted in the requirements document, so that they can be used to build the architecture of the softwar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1027-6BC2-466E-97C7-E640F86221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Requireme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that come from the application domain and reflect fundamental characteristics of that application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functional or non-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quirements, sometimes, are not explicitly mentioned, as domain experts find it difficult to convey them. However, their absence can cause significant dis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38CF-F637-4C02-A2D9-92C95AB56F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Requir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requirements can impose strict constraints on solutions.  This is particularly true for scientific and engineering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-specific terminology can also caus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6A1B-4636-40FF-A984-3A419FC349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xplain what the system shall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.  Many people find it convenient to describe their needs in this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quirements indicate the indecisive nature of customers about certain aspects of a new softwar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7FD6-6327-49D7-82BA-C320E883A8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and Implementation Constrai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evelopment guidelines within which the designer must work, which can seriously limit design and implementation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have impact on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DB79-1D22-4205-B6AD-61D94603AB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quirements Engineering Proces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7F51-4382-4643-9374-BCDBC7C89C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Engineering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429000"/>
            <a:ext cx="12956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429000"/>
            <a:ext cx="1295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3429000"/>
            <a:ext cx="1295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429000"/>
            <a:ext cx="12956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5909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19560" y="3605040"/>
            <a:ext cx="13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ic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3505320"/>
            <a:ext cx="130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12280" y="3610080"/>
            <a:ext cx="13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5280" y="3610080"/>
            <a:ext cx="13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800600"/>
            <a:ext cx="2286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0440" y="4765680"/>
            <a:ext cx="227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Need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 Inform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s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, Regulation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4800600"/>
            <a:ext cx="2286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32800" y="5210280"/>
            <a:ext cx="13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6880" y="5029200"/>
            <a:ext cx="13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96E1-8E39-4E71-AE42-119505F816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Eli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the system requirements through consultation with stakeholders, from system documents, domain knowledge, and market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cquisition or requirements dis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BD9C-FE65-4B38-9449-19F899AA3DC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Analysis and Negotiatio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relationships among various customer requirements and shaping those relationships to achieve a successful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s among different stakeholders and requirements engi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5CCA-11E8-42E0-9C15-AC6ED7A68E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required, something wanted or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’s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FA4B-BCEF-4012-981D-41D0B0C8A4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Analysis and Negotiat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and inconsistent information needs to be tackled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nalysis and negotiation needs to be done on account of budgetar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CCCD-73B3-4C17-9015-5A0159617E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tangible model of requirements using natural language and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representation of requirements that can be assessed for correctness, completeness, and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9534-8567-4982-BD47-5FC6806467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descriptions of the required software system in form of requirements is captured in the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signers, developers and testers are the primary users of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6DF6-9B01-46F6-B727-366A886EBF7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Validation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ing the requirements model for consistency and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intended to detect problems in the requirements document, before they are used to as a basis for the system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5101-52CB-460D-A32E-8187D5F08D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Validation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need to be validat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rmance to local/national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rmance to eth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rmance to compan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13D5-AC2B-4C90-A05F-95E02FDB3A2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, control and track requirements and the changes that will be made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trace requirements both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a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continuou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D2AC-68F3-4C99-9075-91A572511E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Quality: Analysis and Guidelines for Success by Capers J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Analysis and Specification by Alan M.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actitioner’s Approach to Software Engineering by Roger Pre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by I. Sommerville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Quality Practices’ by R. K. Kandt, Auerbach Publications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BE31-4B18-4053-84D1-F763839346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Importan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discussing requirements with reference to quality assurance an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item we discuss, try to associate issues of quality assuranc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8EC6-AEDD-4BB8-8D5F-C3CBE2BDC7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rdest single part of building a software system is deciding what to build...No other part of the work so cripples the resulting system if done wrong.  No other part is difficult to rectify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 Br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689F-28F9-44F5-85D6-96F6230BF1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des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oftware system will do without describ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will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FBFD-DFE1-4F55-B7D2-E64BACF906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quirements may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tatements of services and/or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mathematic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bid of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act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technical document, which describes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4B55-1D8A-4E1D-82CD-724C24A9D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dition or capability that must be met or possessed by a system...to satisfy a contract, standard, specification, or other formally imposed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Std 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1474-815C-44CA-BA58-2EFEC66A0D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7:29:05Z</dcterms:created>
  <dc:creator>Ghulam Ahmad Farrukh</dc:creator>
  <dc:description/>
  <dc:language>en-US</dc:language>
  <cp:lastModifiedBy>ahmadmohsin</cp:lastModifiedBy>
  <dcterms:modified xsi:type="dcterms:W3CDTF">2009-04-17T09:38:13Z</dcterms:modified>
  <cp:revision>105</cp:revision>
  <dc:subject/>
  <dc:title>Quality Assurance and Requirements</dc:title>
</cp:coreProperties>
</file>